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45A-1E26-423C-A302-6AFEA02B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2F7-BFFF-4408-BC50-09C44967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9EB-BD70-482A-BB8D-E7A732BB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94B-3B60-472D-B4E7-2C6385D7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4B6C-DF0A-441D-B28D-DB11CDC9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DD56-10BB-4B22-89E1-E3071E79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C6D2-0009-4F42-9C38-B47CDE75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CFAF-77B7-4642-8BFC-4C0A1EE4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3DA1-2DA9-4D90-BEE2-042F059A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4992-A50D-49DE-B8A8-AA935945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3E80-7B1B-499A-8FB7-C28B6AF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D91-017F-44F3-A07C-CDBFF718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61F2-2B57-4400-A100-3F32D181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CEA1-657A-4B8C-8BA2-20D40006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A63C-0165-4100-913D-AFE6EF5C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37B1-BF9D-49A2-BCE8-BCB3CCE0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95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F52D-5B70-473D-B80B-1F395EFC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271-6C0C-4974-991A-A4BCAB45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318-FF1A-40B3-8945-C08A48CD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734-E9D0-4AD7-9893-FBC41E44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35E-EB00-481D-99B0-6F57C8CE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650-A5E3-4943-BA23-D1ABA9B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95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73A-91FD-43DD-9B6A-4029D286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9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582-16E1-4B9A-BB1B-794891D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6C73-0B58-4B6F-B76E-65EA9004E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1135-6702-4A58-A07D-CEF453107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 Involvement in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ld War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407628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 II in Europe is 1939-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involvement in WWII is 1941-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is almost all lost by the time the US is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618000" y="1828800"/>
            <a:ext cx="1906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merican Response to WW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remain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lationist- no repeats of WW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“America First Committe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merica out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ales of military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 nations to “cash and carry”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D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DR wants to help during 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s to help Al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s up navy in the Pacific because sees Japanese ag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273060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rman Aggre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is worried about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s Congress to make new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up of naval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ve Service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e-time draft (just in c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nd-Lease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war supplies to any nation that is a friend of th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553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panese Aggre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07628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keeps taking mor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 Asia, SE Asia, islands in the Pa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. 7, 1941 Japanese bomber attacks Pearl Har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93800" y="1828800"/>
            <a:ext cx="3592440" cy="2095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851440" y="1828800"/>
            <a:ext cx="1403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 in World War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. 8, 19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declares war on 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. 11, 19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y and Italy declare war on the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has to fight in Europe and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1944720"/>
            <a:ext cx="38098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United States now has to prepare for war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S Mobilization tomorrow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4:33:24Z</dcterms:created>
  <dc:creator>Buffalo Grove High School</dc:creator>
  <dc:description/>
  <dc:language>en-US</dc:language>
  <cp:lastModifiedBy>Buffalo Grove High School</cp:lastModifiedBy>
  <dcterms:modified xsi:type="dcterms:W3CDTF">2008-04-16T16:51:02Z</dcterms:modified>
  <cp:revision>3</cp:revision>
  <dc:subject/>
  <dc:title>US Involvement in WWII</dc:title>
</cp:coreProperties>
</file>